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29B-9829-4B24-AB3E-A5AF2ADB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12A-00D8-4A2F-ADF3-08DED66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5B4FC-73BD-4116-A371-ACF36B6C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FEE5C-8E01-46ED-A081-7DC166F0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1BB6-1DAD-4718-9724-8E5DA25D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A28CC-5B11-4484-AE03-95F5E89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85B7C-439B-4A18-9569-1952981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522E4-23E0-4A7F-8C1E-540382D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7761B-6BC4-44D2-B4DA-B37BBB1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DB75E-6A5B-4ED8-933F-A7041D27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C99BE-EFA6-4281-BB5F-0CC26A0E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6775-5F07-43A5-9D36-D2B1126F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6BF-06B9-443A-AF1D-646B3503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FF28A-2E23-41A8-8D0D-ACC60D9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906B-0800-4738-8CF6-58D70AD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23B9A-6059-428D-B95C-536C5C2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DF1B-8062-48C7-A0A2-C76C366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CAFE3-843D-4407-AC83-C9A218C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EEDC8-4F9B-4BE6-B534-C5543B9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64BAA-CEF3-4CE1-AE7D-B6221B5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1686F-1120-4EF5-A72E-6EE0B67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7A5F4-4081-45AF-B927-E590A15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58EE-0C20-4BEE-B4EB-4B7CDFBD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9C6-6FA5-47F5-B426-A4B1EED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D38F-D3DA-43A1-80E1-DDE28597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DA30E-1911-485D-97E3-16528184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0F2E-65BB-4FCF-B333-DEE0786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2B67E-1527-4627-9AF0-0941FAB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5BDE-841D-4715-B29A-75129FB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9B9D9-B433-41D6-9899-A600CBDA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0EE67-4D60-41B8-9F62-8731F84E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72E2F-44AB-4DE3-96F6-0DE95626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3DC3C-2E9F-4DC6-B95C-23878A8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448B5-675C-4017-85AD-DAEABD0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20E3-4AFC-404A-871D-0B99135F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6F57C-029F-472F-90EF-B12CEC9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7258-061A-49D0-94FE-2A50FD58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71DA-68ED-488A-A585-8FCD50D0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86FD5-E005-47FD-ADDA-080121A6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9305B-39B9-4A3D-95A0-00A65227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5ADAA-1CE9-44E7-9ABD-244FA508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A6DB8-73E2-475F-81B6-8F22935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BB527-CC8C-4093-9DF2-E14357A0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08109-AD90-4F68-910A-8B9E1CD1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144C-433E-4A87-AF11-2185090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5A67-2A55-482A-8740-5EBBA8A9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91BE-325D-484D-A4F0-D7F16BB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9E3A6-FD39-4279-B959-B8D6043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16499-72EF-4EFE-AF7D-6FDC5A73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D514-374E-43C9-90FF-5355C723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5C682-C536-4C0F-BE92-B1E0CDE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FD2F0-CDEE-42BD-B8E5-8A6B5E7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7672C-17AB-48D7-A2A0-ABFF4B5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5F288-CDF8-4562-8381-B7CDCDEF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C6322-BFC8-4945-86B4-CB51345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D4C0F-50ED-4705-B614-15E0A7BD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4594-ECC7-48C4-B4DF-F729F93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44399-B4E3-4EE5-A0CB-73BF8946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EA659-1CEC-41CD-ADA2-157B118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8BC47-85FB-4A56-9A07-428D8FB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D9680-C5C8-421D-AFBD-6FC455B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6FACC-5736-4913-B5B3-E356C1A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67211-44B8-438F-A380-E8E18628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6BAEB-B9F4-4D04-B0B3-126676E4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EA518-59C0-4277-A44C-A7478800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65931-E43D-4890-9CD4-A9BAB921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4EDB4-4637-4144-A85D-BA092F8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263C-5F21-4A71-B30E-4E5B204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A3704-659F-44D4-8C21-53BA5183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8EEEC-0991-4A4E-943A-C02ACD7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2E20-8A63-4E4E-BA60-3A33D3C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E7AD8-441E-41D7-8729-5BAF6EB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3585B-61B1-4E49-9641-97F790E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DF297-8CF8-4E34-ABC1-A546D0B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B6868-CA6B-4B91-A6A7-DFFD04D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DED1C-BEE0-40C1-82FD-1AC7604C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3D062-D511-44BD-B0C4-FBE63409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5CA5D-4FF6-450E-A4B3-9E23898F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D4E4-6032-4C26-B89F-C5BF92B5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EBAD8-6669-46FE-94F3-4851EBB7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6B47B-764D-477C-9776-7E2BF3D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CE9FD-462D-456F-9DF5-3839D10F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A669A-122A-462D-A7F4-F78FE20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5445B-12B3-406E-A589-E8EBD4F3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C0C10-84F7-480C-8200-E7107F6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28559-AAFB-476F-81DF-2207253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F090C-6CB8-4882-B7E1-902BC2C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CB311-8F3B-43E0-B0A4-DA91A9CE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CF81B-CD24-498D-B8D5-8D55B53F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E29-13D9-4657-B83E-376FD9A5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4D123-D617-47A1-BD3A-EA6B44AC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EEFCD-199B-4410-A9C6-56244F42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46834-636D-4DE4-AFD2-72AE3958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5B6BB-6D54-49D2-B131-0D906FB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AC9D2-0CF4-489A-BD77-3634AF5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7FCAD-7BED-4C15-997F-4BF771B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5ADEE-9B73-4705-A0D6-D3F71D5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D1309-2F76-468F-A511-829D4A0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646E0-CF65-41A3-BD10-D88E2A3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A6ECA-A94C-48F0-B851-017C949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39F-F9D7-4FF6-BE75-C4FBA3FE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8475D-AF54-4BF0-A524-62E549B2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B8CB0-23F8-4332-937B-67797BCC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6BC2E-1375-46FA-AA44-3DCE7349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284AA-CE89-4B8C-8692-2B4644A7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B537D-D7FA-4D7A-BF83-21C6032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F0F83-DFC4-4079-8EED-2AB321D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88D7F-EA88-4E8F-92E7-BA39D206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AC691-F18E-4A6C-8920-26BFFD3B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E6DE1-206C-44EC-A1F6-13E09F70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7315D-8229-46E4-890B-D430132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108-4A6D-4DBD-AFE5-2E8B3AA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EDB-33E6-4164-B385-ECFBB18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E620F-697F-44C1-95C0-C501D66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7A07E-56E0-4D6B-A614-52E6B31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107E6-6ACC-493D-B918-094C58B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46786-06EC-4B90-92CF-6F295A2F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4CAD0-0A86-42C9-A444-F76A68D3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A481A-0BBA-40FC-BDB2-BD124D7C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916BE-BC6A-4DBA-AF0F-0CCF1B3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3E7BC-B3B9-400D-ACB5-2363AF08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05413-CE4A-449C-BF07-F9CEDB9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D6DFB-38A9-4980-9293-125682A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F30-2A92-47A4-921A-432BB0E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BA211-D9CE-4DE6-9D39-2B322C0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37064-925C-439A-ADA9-CEA7260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D6D93-EA8A-492B-8EAA-2F4156B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666AC-11B6-4F76-B6D2-4609E2DF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E957D-1B24-49B0-8B86-5409FF17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DB1DB-0D01-40CC-9017-8714B9F2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29631-6512-4F9E-966A-4BFD08DA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A484D-2FAE-4916-B2B1-E082890B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87FFD-7E03-4903-9FE9-AD9184B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98A09-CB74-4BB4-AC4F-6FF230C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2E9-4BA7-4405-91C2-B8A769AC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AB243-B594-4E22-B5AB-F5260DC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F3E25-C22E-4C04-BE2B-65D6D2B3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C87A2-97CA-41C6-88F5-6B9488C6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C17D5-467D-48E4-B404-D72CBA1A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13B7F-7556-4BD5-8800-FCCCDD0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083683-CD1C-4122-A53B-471D9AA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68F67-4593-4441-B276-5A9569E3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F6D84-F05A-425D-9C3A-74812E17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23113-2055-4893-B68C-972401EC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E7807-AD86-441E-819D-3F23043E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430A-316F-4574-A15C-B8DC5B89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CDD0E-5806-466F-ADEB-C8FCF8A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2D44D-EF0B-469F-8784-D9C20901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1B7CE-D122-492F-8C2B-03ED70E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2F42C-EF3D-4EEA-A038-917513A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AAEEF-16E7-4AFD-B203-7F52CDB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B5C8E-41B4-4B12-9FEE-39F32B9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07176-CBE6-417E-8B34-7FD0CC5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3E2D0-306C-4086-812D-D48DEDF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EE865-C951-4D7A-8957-84E6CC1E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48B02-8DC2-4C1B-A29D-2A61DF91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FCF0-9223-4C19-A38A-72714731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13C51-AAE2-46AD-A50C-410D5765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049EEA-6D87-4B8E-A409-BD25756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04108-2CFF-4147-9DA9-28551E42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893D3-2E87-4B81-BA47-EF8130DA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49F80-CF8E-4AAF-998F-B908EB2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F878C-3BA0-41DA-9D12-AD403CA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97AFE-375C-4FAF-BBD3-C0176C6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EAE21-958C-490C-8836-8F8B428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89F02-A2BD-40EE-A2C6-6B7B6C2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11EF8-2681-48AA-9F3C-D8E7080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4452-CB03-42C1-95ED-FDBAD4E6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1D2D7-B28D-4A6B-A0DE-B3974F4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3BA09-9EAD-4DBD-A521-8243102F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7056E-AA3B-4C8E-852A-FB89EDF1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49F2D-A485-4EA8-9780-613940DA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AD177-3946-48C3-9825-3735CE4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D8296-91FF-4793-9EC4-A7BAB3B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F50F1-CB63-4013-8855-A9300BD7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EFC66-3E20-4BD0-A9EE-32A1ACC4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C88FB3-C42F-46F0-96E6-28B895E0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767F53-1DD6-450D-AB13-AACA8EF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6FDB-B905-409F-933D-0E26D72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66D60-518A-4642-AD8A-253C3FA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2C7E7-223B-49D5-AF2C-41B9EDC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A297B-482D-4A9D-B459-9B5855C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17F8D-F18F-430F-A488-E6EFBB5A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DCEC21-35DB-47D1-826D-A2AB8CA3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C5E3C-22B3-4037-BC99-0C722569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2B73C8-F5B9-46AD-8C4D-47DF08A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9ABFD1-391F-45BE-87BA-DD00343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ACA5C-5E03-4FFE-9938-26E40311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DD7EEB-D3BA-4741-BF58-2044490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98F0-A821-45B8-BA38-3ECC33B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B6522-D8E4-4AB0-8412-798D6C5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40B930-A74F-48DF-B57F-CBE642D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92706-ACEE-41DF-A925-EAE3EC5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4B5655-5B41-43F8-A722-7ACBE58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E9FF7-044B-4D50-90FC-9587DA2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09AFD6-0C03-42F7-BD38-65B7B2C9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44D73-2A5B-4AEE-8DF1-0CD747BE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D01B-8090-4467-B510-A88A9DD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0C3D-79DB-4E75-B045-8EA60EB2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464-0471-4FCD-B439-B7C0BCE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1A90-437F-41DF-B0BC-B09974FB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18D3-9504-491F-961D-1005FA6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6132-4513-49EB-8606-7507C1D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67BF-E312-48AB-83F7-A3109B4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6194-3246-4FC1-8F8B-773CEA6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0D4D-6C87-460D-A65A-051ECFDB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4120-2018-440C-8480-DADEC9B8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B67B-C067-415F-BCC6-0AC9D9B0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7B4C-DA60-4CAB-8DDA-DAD0128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C6D3-F5E0-488D-B27E-907B4F0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58D-C642-437D-936D-AE05F91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A312-95E0-45E1-9615-D5E4C08D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017D-EA30-4F57-9656-E7E15FB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8848-85C0-4591-9D75-36ED4F7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6856-E5BF-4367-83E0-F65DA78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5ED3-9DB2-4AEA-83DB-C637705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FC6D-5B67-4997-9D0B-2EEFB28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3D52-DEDF-44F3-8DDE-84492BA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49B1-4944-4CB0-B9A7-B512692F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1BFF-457E-4CA3-B5DE-EC028372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3E91-EB2E-4A3B-8188-71C68FCC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9AC-3587-4976-96A8-91051B1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40004-F488-4510-A153-7741A66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7989-1E9C-45D3-AFCD-7A2D36E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845F-992F-49F3-A81B-3FAC7AA3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4D4FA-930E-4BBA-9D6E-B9C397CA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D2CB-60B1-4BAB-A59C-FB3F88D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1CF9-E843-4FE2-AEE2-5A4FFA1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C2CB5-6616-4E55-819D-B42F0A9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98ADD-39E6-4108-8BD2-79CCB81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F50B-F3F9-40B6-A866-90AF5DA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C127-BD0C-473C-9710-4C2BD84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C27-3B92-4D20-8CA5-C350018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8434A-D9E3-42AB-86E3-1C4B8D9A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A57C-3619-486F-8428-CE151A43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EBE7C-464D-494F-8309-B7367CA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0D99-12C1-4384-B374-4195602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F8DB-F241-4552-A33E-1595FF2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17CE-2FF5-4B12-8E9C-AFDF661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D81F-AEA5-459A-A0AD-7846C2A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4EE7-8F65-46EF-9652-8F2B69E1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EB5AA-A223-40BD-8EE6-B17B57A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D05E-EE34-4095-86E5-4AA6111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BD2-72C7-41DB-889F-17DF061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11ED-EC82-4BAC-8EDE-84F55014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1A8D-8109-41F1-9CF7-A48AFF4B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7F79-7C9F-47BB-AB6F-2005BA9C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4AE7-6560-4127-9C69-8DF63711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FC95-02D0-4B65-8250-58F1FF58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3663-8128-4E33-B59C-3E97598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4596-19A4-4B5F-9A98-AC79CE7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72F5-DC57-48BD-9639-5D7C287C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3949-21DE-4A44-B5CA-D2B264D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1258-9D40-48EB-B36B-DE85F01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DF0-4E0E-4BC3-A4D7-97F5789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0DE5A-5305-48A2-951D-2414401D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ADC4-3E9F-4E28-8C71-7A46357D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EBA8-0837-4C49-BAEB-540912B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21D9D-40D2-4F8A-B4F1-E3CC6DC4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A510-2240-4107-9524-3D17F68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2E17-619D-4CC8-AAEF-304247CF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71DA-47C4-4FC5-8ADE-8C973CA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7343-8EF7-4565-8D3F-9DE5C05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13D7-0D89-4636-BF10-BEEBC66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DA4F-05EC-43DB-9367-EC9A24AD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B53-D238-4C2A-A624-AFDB9A6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D4F54-1AC7-4650-930D-C735AE3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6A7E-7875-49FB-8A22-084E1F5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4CE6A-D0A9-43AC-9252-3B06D96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59CB3-4149-4A6D-88F1-320CF08C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6702-DB1A-4E62-954B-4A9D559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DE3E-E980-48BC-BC27-E8E2B63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5853C-3E12-4148-A082-AB0EE47D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DBBD9-2558-4370-BC2A-F01E7062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CFB0-D3F3-4333-8914-083C2526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30150-59F9-4247-B67E-6C46BB5D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CDC4-08CA-4A7A-B9F8-10E3AF4DA0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E6E-4CA7-4C62-9CD2-62508E29D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95E-7A6B-41AF-AADF-394D8FF48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0B6-495C-461B-AE08-85B98F9B0E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CE74-6A04-44D2-8EEC-F5592878F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264-A936-4F9F-AF67-8E1508C86C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318-F58A-4FAD-B5F3-6A50DD756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A734-0E6C-4485-868F-8703B8C92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0AC-0257-4F22-B6C4-015203AFC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53B-8188-4C33-9D95-AAEB89EAF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00A-0C1C-4A27-B174-FFB02217A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C7BF-15B6-4945-8DA8-815787504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B11-BF46-4258-94FD-599C2AF8F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72E9-6ED5-4BBE-BD92-3A3FA9A37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FFB-BC9A-45C2-9948-57060AD9FA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B1D-7506-46E1-9636-EC63FCD28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CD9F-A23C-47CB-A021-7A779CBF7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8D5-9D5A-42F0-A644-C86B9C1BD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4B9B-4AF7-4692-BE6A-28097FCDEE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CDBD-D349-413D-9DC0-AF199C1C7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7691-6A4F-4039-BDFF-E5975C89C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FB9E-782B-460B-8B0A-3A4B3F1F6E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AFD-6372-40AC-97D0-765E26246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DB1-E4A8-4F38-B12C-1312B4D44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5DD-9D54-4E7F-B225-2C15045CD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5DB2-CC57-4AE8-B004-9F28E89A8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B37-14C7-4618-91DA-3DB06D38B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5001-7839-4DAF-9CBA-4FDAC3F72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F05C-B0C6-4652-B2A7-B88CBB7CB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50D-1731-478C-9265-E09468A0B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E3FC-69F0-4568-B4F9-F52C418FD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DD7-96DA-48C9-BDD5-D45EB15FC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667-FF83-4F91-AB8F-5E5A3F8F0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6B61-C1C6-40C7-8B04-EF581B4C62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21DA-72AB-44FF-8AAF-6FD56C56A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5DD6-5977-4BC1-A2DC-CD7ED170B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F870-85E9-44C5-9AA9-70887BEF6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D86E-F24F-4E86-8339-60028325D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A01-5D49-4284-8CC3-9A110B86D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D2A-6B86-49F1-B420-A134E3643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1B1-401C-492F-A026-FF384460F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3E6-D6A4-4392-B780-017A14D8AA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24200" y="3005280"/>
            <a:ext cx="5295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7440" y="755640"/>
            <a:ext cx="2086200" cy="4287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66600" y="1184400"/>
            <a:ext cx="9010800" cy="5114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213372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24000" y="551664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04760" y="2052720"/>
            <a:ext cx="8934480" cy="27525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6012000" y="255600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851280" y="303696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4356000" y="3506760"/>
            <a:ext cx="936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959200" y="399564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124000" y="4465800"/>
            <a:ext cx="1152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81080" y="1781280"/>
            <a:ext cx="7000920" cy="18478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2" descr=""/>
          <p:cNvPicPr/>
          <p:nvPr/>
        </p:nvPicPr>
        <p:blipFill>
          <a:blip r:embed="rId2"/>
          <a:stretch/>
        </p:blipFill>
        <p:spPr>
          <a:xfrm>
            <a:off x="181080" y="3746520"/>
            <a:ext cx="5895720" cy="88596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3" descr=""/>
          <p:cNvPicPr/>
          <p:nvPr/>
        </p:nvPicPr>
        <p:blipFill>
          <a:blip r:embed="rId3"/>
          <a:stretch/>
        </p:blipFill>
        <p:spPr>
          <a:xfrm>
            <a:off x="6475320" y="2809800"/>
            <a:ext cx="2524320" cy="21528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1258920" y="2305080"/>
            <a:ext cx="122544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3780000" y="2771640"/>
            <a:ext cx="86328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1908000" y="324180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2124000" y="374508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2627280" y="4221000"/>
            <a:ext cx="576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20680" y="1230480"/>
            <a:ext cx="5780160" cy="234288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6229440" y="1847880"/>
            <a:ext cx="2743200" cy="183816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3" descr=""/>
          <p:cNvPicPr/>
          <p:nvPr/>
        </p:nvPicPr>
        <p:blipFill>
          <a:blip r:embed="rId3"/>
          <a:stretch/>
        </p:blipFill>
        <p:spPr>
          <a:xfrm>
            <a:off x="220680" y="3686040"/>
            <a:ext cx="3941640" cy="343080"/>
          </a:xfrm>
          <a:prstGeom prst="rect">
            <a:avLst/>
          </a:prstGeom>
          <a:ln w="0">
            <a:noFill/>
          </a:ln>
        </p:spPr>
      </p:pic>
      <p:pic>
        <p:nvPicPr>
          <p:cNvPr id="1131" name="图片 4" descr=""/>
          <p:cNvPicPr/>
          <p:nvPr/>
        </p:nvPicPr>
        <p:blipFill>
          <a:blip r:embed="rId4"/>
          <a:stretch/>
        </p:blipFill>
        <p:spPr>
          <a:xfrm>
            <a:off x="304920" y="4102200"/>
            <a:ext cx="6904080" cy="23241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1332000" y="2195640"/>
            <a:ext cx="201600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1835280" y="3141720"/>
            <a:ext cx="50472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2987640" y="315108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8"/>
          <a:stretch/>
        </p:blipFill>
        <p:spPr>
          <a:xfrm>
            <a:off x="2195640" y="4114800"/>
            <a:ext cx="86364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9"/>
          <a:stretch/>
        </p:blipFill>
        <p:spPr>
          <a:xfrm>
            <a:off x="3635280" y="4130640"/>
            <a:ext cx="302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10"/>
          <a:stretch/>
        </p:blipFill>
        <p:spPr>
          <a:xfrm>
            <a:off x="2124000" y="5084640"/>
            <a:ext cx="367200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11"/>
          <a:stretch/>
        </p:blipFill>
        <p:spPr>
          <a:xfrm>
            <a:off x="1476360" y="6049800"/>
            <a:ext cx="2016000" cy="290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2"/>
          <a:stretch/>
        </p:blipFill>
        <p:spPr>
          <a:xfrm>
            <a:off x="5651640" y="6049800"/>
            <a:ext cx="8650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5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